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move the slid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603A-BCEB-4E1E-BE6E-3F37F6117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FC36-EB38-4EAA-B041-762AB12480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D753-6A96-43B9-9351-CE6ABCA6E9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A561-6EE1-4AE0-8701-B7A22D31AD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7F6C-94A6-42BA-BB38-D21FC77AD9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142F-D289-450F-A312-50FA0C95B8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EDAA-0B51-4293-AA63-4A681EDCB0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7D50-975D-4177-BE58-F0CA527BF5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F5D5-93F4-4132-B672-9E4E3D8006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F492-EAED-433F-A6F6-1B7993664A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0125-E0A2-45FC-BF3A-C6ED329419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8604-8318-4E50-8754-9B353D0C15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25BF-37B7-4138-B0A9-1DC8E556EB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68A9-7B21-4F29-AB3B-5476963F71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0323-3D10-4720-A5DC-2C2DC95849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A412-54AE-4475-AE30-C3748A1603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546F-F5FA-4069-83CC-5FC48AA083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D91E-C796-486E-92A7-86B5F70DC5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F878-0D95-4E5B-855E-A7A97D9F17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F0F3-504C-46D0-90E4-971559B11C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0A9B-4C98-4E90-A866-80C575AE7B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3EBB-D6FF-4992-89B6-3D0280769D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7EA6-714B-4379-9FB4-AC3F2E40F1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4160" y="685800"/>
            <a:ext cx="4554360" cy="3416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9283-E787-48C0-AFB1-36A1F4A2B3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39F1-3092-4ACA-AAF1-7EE1D18777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84CF-41FB-4182-838D-E5A8EB5DF2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C0E-124F-4FC4-83DF-E2070336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737-077A-4090-B075-FC9CCA08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C44C3-2730-4311-B028-434BD3B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2E29A-0DA1-40A2-B4DE-F37DC1F4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5F3C1-86CF-4F4C-BD82-73A5000B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8C7D2-2F66-4D59-83CC-B20AC48C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6BD45-8F6D-469A-8D33-2B7680DA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1BC6A-EE0D-4AFA-B1ED-4057A289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C3806-C2FE-4C4D-B482-07940B0A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DE458-22FA-4006-959A-A0E279AB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836E9-A21F-4C8F-B68C-2C885BDA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F0F8D-D519-4F7C-9414-4161B33E2A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938-269D-4F8E-BD81-FF054384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15AD5-18E6-48EB-8DDD-503E50F2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E40F7-CD78-4310-A9BA-99673479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AE690-092C-471C-9757-0645F508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25256-5EFD-4AF3-AE14-79EC35C6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272EB-E63E-4ECB-A6E7-A911CD8F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916FA-87D0-4A63-A842-A276D752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F0F5B-57C4-49E1-8957-A0308CB2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C73FC-BE2F-4847-A2E7-67B56526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85D95-0620-4865-B454-376732F0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FE997-8173-49C2-93E9-5B929BA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F51-6308-4F07-9680-835DBB52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26363-3F09-42ED-B6C3-3CA9BECF7B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C9D-94B1-4296-864D-7C06194B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E72-5C67-4E3E-8A7E-645A939A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F1D7A-2A24-495C-AC14-2C07713D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51871-8868-4AC9-95C5-174BDFAE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0EC9B4-FE70-44CD-8DFA-D2BCDE22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896-4D88-4878-9646-C8EB14FD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7ACF7-DED7-46F0-A55F-1F5077DD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98212-98C0-4546-B93A-432FBDB0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6FA14-8A58-460D-BDA3-7DBE625A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92B18-60B6-47D3-8AAD-60AC69BC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15CC9-62FB-426C-A448-16FE683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F284E-8D5D-4F19-8AC6-DC00AFBA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55CE6-C1D6-4836-8B6A-485E1BD6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40F12-D5FA-4905-BDD3-4201B5CA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BA150-E469-462C-9793-EFB74F3F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9CD5F6-5E20-442E-B2E3-9058AE6E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284-94BF-4160-B57D-AC628669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BBAA96-FBC0-4FA9-9E92-EC1DC56C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496939-0170-4F17-8EDB-5953EA7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B825B-0879-4663-9D1E-3241A4DA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FF6632-9255-4A16-8F4F-CEC5457C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429B0A-CAF7-405D-9C18-2C6BD33A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4DDFE0-9700-41D6-AF7F-288C5A15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3D9F03-8827-4831-976D-11D25176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27561-4724-4D48-8EBC-3EB176C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40DEF1-6894-456B-B1F9-E3803A81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C5C3D-89D5-42BE-BD54-03D71573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6A8-2F51-4E9E-AD11-A57A08B0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F0C42B-F4CC-43EF-8A56-C7E01311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CD50AC-1729-4FB7-B654-DFC60A66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E69F86-C591-4958-98E0-E59C0A70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FAAD8E-FEE9-44F8-A54A-41849063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469E99-29E7-462E-AE45-03B066C7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453BBE-2288-4CB7-A9D3-454CEA89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96CDB-0B55-4034-90C9-5C5D2BE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AE619-EC24-4D74-BBA5-0D523085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EBD877-0015-43AF-BBFD-9D1B29DB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A70BCD-C8A1-45E0-91CD-40459CF4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619-3F55-40E3-AFE8-45798AD6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A9563E-086A-4563-9E32-7B74EB71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4F6F6B-51D0-40BA-ADCD-8084320D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14FB76-145A-445E-B82F-A5366836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87FD2-76E3-45CC-9848-22842E65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04177-36AB-4C36-BE78-1970B152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DCAD19-262A-4050-8B9A-BCB16554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01E762-F016-44A3-B893-70C5FA0E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F3C59D-84E0-4AB5-883A-BDFD47F4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18DE6D-A418-4D7D-888A-76CF2A9B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6C4421-4F5E-4732-8385-F7D9FC9E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462-DC48-48EF-94D2-B6BEE4EE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81EEA-F649-4197-A95C-C181B6B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3C0A0B-35CC-4A5E-AF91-8C9ADD6A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EBF294-DDD6-4182-B4E2-ACB86906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9A2A5F-AB6E-4B07-980C-18814CC4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FBD3AA-4142-4503-BDBF-75F5742E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6B9EF8-25D5-4CCE-9EB0-045F2F9C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1C16D8-DB1C-4798-BAFA-F7AE8F5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FE438-FA6F-438B-ACF9-120A5F76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3D7219-74C8-437E-A13A-B770B4AD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722CFF-7711-4C51-B077-FB3E8804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898-5F05-4F73-BD90-81143C56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92C8FE-E489-4300-A6C4-90E610DF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C52804-3E45-4787-8FA5-315E476A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2C7219-8B86-4F3A-8D68-F4747C61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09572A-3E32-4C42-97AB-DC8D1521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1202F1-6948-40F1-B35F-4A1873E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89E6EA-46FF-4024-B2CE-CD39D394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64C0E2-7DE8-4474-953A-56EC2003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586DC-6202-4F8B-A4BE-2F421652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E73F6-51AF-43C2-8AC9-8A39282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D2F4E-8EF4-4870-91DA-59B8F0F1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B634-BEF0-4958-924B-95C0B031AF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B393-F57B-4CE4-9BF7-5F8104A734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F7DB-D23F-406C-91D0-AB00A2EC5C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A7BF-C744-476F-9743-566D669CBD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23C8-138E-4A0B-A4B0-99E1E98E58F6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611C-CDB9-4B86-A27B-9E5139E67E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9C4E-A034-48E7-8064-825E570D5AC9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E8A9-BCCD-4887-B20B-CE9A83EDE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94431"/>
                </a:solidFill>
                <a:latin typeface="Comic Sans MS"/>
              </a:rPr>
              <a:t>Evolution</a:t>
            </a:r>
            <a:endParaRPr b="0" lang="en-US" sz="8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5238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Diversity of Lif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AF48-137E-4B11-AD2B-8D459DB87F9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4640" y="304920"/>
            <a:ext cx="7612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ample of Binomial Nomenclatur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Catastrophis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dea proposed by George Cuvi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udied fossils in sedimentary rock strata of Pari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und some species completely disappeared in more recent layer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Catastrophis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282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ted that species disappear due to a catastrophic event of the earth’s crust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. (volcano, earthquake, flood, etc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44" name="Picture 4" descr="cuvier"/>
          <p:cNvPicPr/>
          <p:nvPr/>
        </p:nvPicPr>
        <p:blipFill>
          <a:blip r:embed="rId1"/>
          <a:stretch/>
        </p:blipFill>
        <p:spPr>
          <a:xfrm>
            <a:off x="6012000" y="1905120"/>
            <a:ext cx="2912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Hutton’s Theory of Geological Chang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52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James Hutton, 1795, Scottish geologis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escribed the geological forces that have changed life on earth over millions of years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(erosion, earthquakes, volcanoes…)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Hutton’s Theory of Geological Chang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0520" y="1828440"/>
            <a:ext cx="541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s in Earth’s crust are due to slow, continuous proces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idea is known as: Gradualis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49" name="Picture 4" descr="hutton"/>
          <p:cNvPicPr/>
          <p:nvPr/>
        </p:nvPicPr>
        <p:blipFill>
          <a:blip r:embed="rId1"/>
          <a:stretch/>
        </p:blipFill>
        <p:spPr>
          <a:xfrm>
            <a:off x="5943600" y="1905120"/>
            <a:ext cx="281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Charles Lyell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osed theory of Uniformintarian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ological processes occur at uniform (constant) rates building &amp; wearing down Earth’s cru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osed that the Earth was millions of years old instead of a few thousand years o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52" name="Picture 2" descr="22-x3-Lyell"/>
          <p:cNvPicPr/>
          <p:nvPr/>
        </p:nvPicPr>
        <p:blipFill>
          <a:blip r:embed="rId1"/>
          <a:stretch/>
        </p:blipFill>
        <p:spPr>
          <a:xfrm>
            <a:off x="6095880" y="1600200"/>
            <a:ext cx="27990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194431"/>
                </a:solidFill>
                <a:latin typeface="Comic Sans MS"/>
              </a:rPr>
              <a:t>Principles of Geolog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6201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Published by Lyell just before the Beagle set sail &amp; it was read by Darwi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Explained geological processes that shaped the earth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Helped Darwin understand sea shells in the Andes Mountains at 12,000+ feet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Expanded Earth’s Age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ean-Baptiste Lamarck, 180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e of first scientists to understand that change occurs over 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d that changes are adaptations to the environment acquired in an organism’s life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aid acquired changes were passed to offsp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57" name="Picture 2" descr="22-x4-Lamarck"/>
          <p:cNvPicPr/>
          <p:nvPr/>
        </p:nvPicPr>
        <p:blipFill>
          <a:blip r:embed="rId1"/>
          <a:srcRect l="6324" t="0" r="7493" b="0"/>
          <a:stretch/>
        </p:blipFill>
        <p:spPr>
          <a:xfrm>
            <a:off x="6564240" y="1752480"/>
            <a:ext cx="2274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</a:t>
            </a:r>
            <a:r>
              <a:rPr b="1" lang="ja-JP" sz="4800" spc="-1" strike="noStrike">
                <a:solidFill>
                  <a:srgbClr val="194431"/>
                </a:solidFill>
                <a:latin typeface="Comic Sans MS"/>
                <a:ea typeface="MS Mincho"/>
              </a:rPr>
              <a:t>’</a:t>
            </a: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28600" y="1641240"/>
            <a:ext cx="44956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dea called Law of Use and Disu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f a body part was used, it got strong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f body part was NOT used, then it deteriorat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60" name="Picture 4" descr="giraffenecks"/>
          <p:cNvPicPr/>
          <p:nvPr/>
        </p:nvPicPr>
        <p:blipFill>
          <a:blip r:embed="rId1"/>
          <a:stretch/>
        </p:blipFill>
        <p:spPr>
          <a:xfrm>
            <a:off x="4849920" y="2209680"/>
            <a:ext cx="391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s of Use and Disu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acksmiths &amp; Their Sons (muscular arm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iraffe’s Necks Longer (from stretching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63" name="Picture 4" descr="Girafe"/>
          <p:cNvPicPr/>
          <p:nvPr/>
        </p:nvPicPr>
        <p:blipFill>
          <a:blip r:embed="rId1"/>
          <a:stretch/>
        </p:blipFill>
        <p:spPr>
          <a:xfrm>
            <a:off x="5676840" y="1523880"/>
            <a:ext cx="3238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Name two of the unique species that Darwin observed on his voyage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C790-9366-4C1D-883B-CD39C55F93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8" name="Picture 4" descr="giraffe_lamar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64640" y="1828800"/>
            <a:ext cx="7612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66ff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its acquired during ones lifetime would be passed to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71" name="Picture 4" descr="dobermans"/>
          <p:cNvPicPr/>
          <p:nvPr/>
        </p:nvPicPr>
        <p:blipFill>
          <a:blip r:embed="rId1"/>
          <a:stretch/>
        </p:blipFill>
        <p:spPr>
          <a:xfrm>
            <a:off x="1219320" y="4038480"/>
            <a:ext cx="6172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Theory of Evolu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33520" y="1828800"/>
            <a:ext cx="78436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endency toward perfe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ganisms are continually changing and acquiring features that help them live more successfully in their environmen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 Bird ancestors desired to fly so they tried until wings develop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Lamarck’s Mistak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2070000"/>
            <a:ext cx="7920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d NOT Know how traits were inherited (Traits are passed through genes)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enes are not changed by activities in lif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ange through mutation occurs before an organism is born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Population Growth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Thomas Malthus, 1798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Economist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Observed babies being born faster than people were dying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Human population size is limited by resources such as the food supply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The Struggle for Existenc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64640" y="1828800"/>
            <a:ext cx="7612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lthus’ Influence on Darw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326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igh Birth Rates &amp; Limited Resources Would Force Life &amp; Death Compet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ach Species Struggles For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326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326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ving Spa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326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t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DB70-B70D-4C01-804C-AC51B80CA9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Evolutionary Timelin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0954-5F90-4B37-94E8-AA0AA8C8DF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3" name="Picture 2" descr="22-01-DarwinHistorContext-L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How did the geologists of his time influence Darwin’s understanding of the world.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Bell Ringer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Why was Lamarck’s theory of evolution incorrect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Daily Objectiv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Describe the ideas that influenced Darwin’s scientific understanding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93E4-44F3-4931-82D7-735914A2F2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304920" y="838080"/>
            <a:ext cx="4572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35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83500"/>
                </a:solidFill>
                <a:latin typeface="Comic Sans MS"/>
              </a:rPr>
              <a:t>Nothing in biology makes sense EXCEPT in the light of evolution.</a:t>
            </a:r>
            <a:r>
              <a:rPr b="1" lang="ja-JP" sz="3600" spc="-1" strike="noStrike">
                <a:solidFill>
                  <a:srgbClr val="f835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3500"/>
                </a:solidFill>
                <a:latin typeface="Comic Sans MS"/>
              </a:rPr>
              <a:t>Theodosius Dobzhans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623040" y="1522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8" name="Picture 4" descr="Fig2"/>
          <p:cNvPicPr/>
          <p:nvPr/>
        </p:nvPicPr>
        <p:blipFill>
          <a:blip r:embed="rId1"/>
          <a:srcRect l="15154" t="4224" r="12126" b="20226"/>
          <a:stretch/>
        </p:blipFill>
        <p:spPr>
          <a:xfrm>
            <a:off x="5105520" y="68580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5"/>
          <p:cNvSpPr/>
          <p:nvPr/>
        </p:nvSpPr>
        <p:spPr>
          <a:xfrm>
            <a:off x="4093200" y="617220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arles Darwin in later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Evolutionary Timelin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431" name="Picture 2" descr="22-01-DarwinHistorContext-L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Early Ideas On Earth’s Organism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88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ristotle believed species were fixed creations arranged by their complex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dea lasted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year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2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This arrangement is like a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ladd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4" name="Picture 4" descr="aristotle"/>
          <p:cNvPicPr/>
          <p:nvPr/>
        </p:nvPicPr>
        <p:blipFill>
          <a:blip r:embed="rId1"/>
          <a:stretch/>
        </p:blipFill>
        <p:spPr>
          <a:xfrm>
            <a:off x="5105520" y="1752480"/>
            <a:ext cx="3430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Comic Sans MS"/>
              </a:rPr>
              <a:t>Early Ideas On Earth’s Organism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2280" y="1904760"/>
            <a:ext cx="6096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nnaeus – First person to group similar organisms and assign them Latin nam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wo word nam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51240" indent="-319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(Genus species)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nown as Binomial nomenclatur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7" name="Picture 4" descr="linnaeus"/>
          <p:cNvPicPr/>
          <p:nvPr/>
        </p:nvPicPr>
        <p:blipFill>
          <a:blip r:embed="rId1"/>
          <a:stretch/>
        </p:blipFill>
        <p:spPr>
          <a:xfrm>
            <a:off x="6248520" y="2057400"/>
            <a:ext cx="250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4:19:25Z</dcterms:created>
  <dc:creator>Cheryl Massengale</dc:creator>
  <dc:description/>
  <dc:language>en-US</dc:language>
  <cp:lastModifiedBy>dzahm</cp:lastModifiedBy>
  <dcterms:modified xsi:type="dcterms:W3CDTF">2013-10-17T11:39:11Z</dcterms:modified>
  <cp:revision>97</cp:revision>
  <dc:subject/>
  <dc:title>15-1 The Puzzle of Life’s Diversity</dc:title>
</cp:coreProperties>
</file>